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85C0-A46C-4B92-BCB8-323E44599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334B-983F-429D-B039-1C8FFFB0C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8691-C89C-45EC-A293-96D156518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1491-EC2C-46D7-8CFE-14CB57E44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D290-A064-42CE-9234-B4BAE3624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AA5B-E2B3-45AB-B86E-158E42E05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54EF-C726-400D-80D4-8BA3A2348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D823-F7F8-4C54-B4D1-72F5C5828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5FF64-E7DB-4C40-A94D-B06EDCFBB4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DCB13-5CAA-46DD-AE37-607715492A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46367-D088-4E93-AF37-39437C80EE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B822D-F627-4052-924F-1199D06458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2D4F5-7532-4F44-86C2-31ED79B1C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87DCC-1A53-4981-89DE-F8414FED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F26DF-2395-4B7E-AC89-5BCC03C8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ED022-4143-4FF7-890E-12CAA0ED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F1B7EF-4CA7-4560-982B-D5A24292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8044B-BF4E-483E-9841-CBA9D04F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727AC-DB7B-4915-A1AD-0596830A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4570C-F85B-41FE-B221-DF01C447AB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52D94-90E8-4998-8472-26CC3F5D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2DD36-A2D0-4E26-985C-E677F7DE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C0E12-2315-4A14-AA1F-BAB59689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6A970-C513-4945-B192-64D9B8B5D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3237B-09D8-44FE-BD1B-506A08CEB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CB253-3B10-431F-9D4D-604D0D7346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E9C4F-4ADF-4DCB-A6D0-504A432965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A0BBB-AB7C-48A2-8CE6-F669F130F4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7F375-F2C1-4E48-A941-C2DC2EECDD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4D910-8FFA-4B0A-9FEB-084BE430AE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087D8-3777-4E91-9664-5CD4C906C5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D9C31-A451-47A2-80A5-1F4260477A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A44E-8154-47C1-AB30-C0205549F4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D116-E4F9-4175-8562-178A4D4682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3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F5C8-46FB-406C-98BC-088C9DBA8D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9" name="Rectangle 8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9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10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2" name="Rectangle 11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6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7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8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19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0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Text Box 21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Aides visuel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2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230B-99A2-4B87-A2DB-42DD920F2A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visual_sop"/>
          <p:cNvPicPr/>
          <p:nvPr/>
        </p:nvPicPr>
        <p:blipFill>
          <a:blip r:embed="rId1"/>
          <a:srcRect l="51824" t="0" r="0" b="0"/>
          <a:stretch/>
        </p:blipFill>
        <p:spPr>
          <a:xfrm>
            <a:off x="4724280" y="946080"/>
            <a:ext cx="4025880" cy="4965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533520" y="1549440"/>
            <a:ext cx="3886200" cy="39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 Une image vaut 1000 mots 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enser aux </a:t>
            </a:r>
            <a:r>
              <a:rPr b="0" lang="fr-FR" sz="2800" spc="-1" strike="noStrike">
                <a:solidFill>
                  <a:srgbClr val="9999ff"/>
                </a:solidFill>
                <a:latin typeface="Arial"/>
              </a:rPr>
              <a:t>aides visuell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afin d’aider à renforcer la conformité aux nouvelles procé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5"/>
          <p:cNvSpPr/>
          <p:nvPr/>
        </p:nvSpPr>
        <p:spPr>
          <a:xfrm>
            <a:off x="6781680" y="2133720"/>
            <a:ext cx="2362320" cy="82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’assurer que l’étiquet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est juste en dessous du capuch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6"/>
          <p:cNvSpPr/>
          <p:nvPr/>
        </p:nvSpPr>
        <p:spPr>
          <a:xfrm>
            <a:off x="6781680" y="2819520"/>
            <a:ext cx="2362320" cy="100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ette étiquette est presque droite, a un code bar propre et aucun surplus ne dépasse le tour du tu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7"/>
          <p:cNvSpPr/>
          <p:nvPr/>
        </p:nvSpPr>
        <p:spPr>
          <a:xfrm>
            <a:off x="6781680" y="4611600"/>
            <a:ext cx="2362320" cy="82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ette étiquette ne s’étend pas jusqu’à l’extrémité inférieur du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8"/>
          <p:cNvSpPr/>
          <p:nvPr/>
        </p:nvSpPr>
        <p:spPr>
          <a:xfrm>
            <a:off x="4952880" y="5667480"/>
            <a:ext cx="236232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tiquette correc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AD70-E732-4910-862C-8F84A915B9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4" descr="specimen_visual_aid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0" y="716040"/>
            <a:ext cx="91440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ide visuelle permettant de déterminer le volume suffisant de sé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429000" y="1295280"/>
            <a:ext cx="5715000" cy="502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a mesure visuelle, afin de déterminer si le spécimen est au dessous de la limite de 2,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nir le spécimen contre la carte visuelle de me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igner le gel séparateur a la ligne du 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 utilisant la ligne du haut, déterminer s’il y a plus ou moins 2,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oneTexte 8"/>
          <p:cNvSpPr/>
          <p:nvPr/>
        </p:nvSpPr>
        <p:spPr>
          <a:xfrm>
            <a:off x="1981080" y="3581280"/>
            <a:ext cx="83844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2D64-4784-47DA-B64B-EA847CBF91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4" descr="sample_management_1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de visuelle déterminant l’acceptabilité du spéc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57200" y="1523880"/>
            <a:ext cx="34290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’il y a 2,5 cm ou plus de séru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4191120" y="1371600"/>
            <a:ext cx="472428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mballer le spécimen et le transporter comme d’hab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oneTexte 9"/>
          <p:cNvSpPr/>
          <p:nvPr/>
        </p:nvSpPr>
        <p:spPr>
          <a:xfrm>
            <a:off x="3505320" y="3882960"/>
            <a:ext cx="83808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35D9-0F32-4620-A525-46A6689BA9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4" descr="sample_management_acceptability_2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0" y="1447920"/>
            <a:ext cx="40384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is, s’il y a moins de 2,5 cm de sé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4038480" y="1219320"/>
            <a:ext cx="510552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rquer le haut du tube avec un X et emballer le spécimen dans une boîte priorit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de visuelle déterminant l’acceptabilité du spéc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oneTexte 9"/>
          <p:cNvSpPr/>
          <p:nvPr/>
        </p:nvSpPr>
        <p:spPr>
          <a:xfrm>
            <a:off x="3124080" y="3882960"/>
            <a:ext cx="83844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B72E-23D7-4B7A-A007-F934D0E14B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5_finger_prick_job_aid"/>
          <p:cNvPicPr/>
          <p:nvPr/>
        </p:nvPicPr>
        <p:blipFill>
          <a:blip r:embed="rId1"/>
          <a:stretch/>
        </p:blipFill>
        <p:spPr>
          <a:xfrm>
            <a:off x="1781280" y="0"/>
            <a:ext cx="523692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5116-483C-4610-BD03-5A8F8F67F7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5_venipuncture_cdc_who"/>
          <p:cNvPicPr/>
          <p:nvPr/>
        </p:nvPicPr>
        <p:blipFill>
          <a:blip r:embed="rId1"/>
          <a:stretch/>
        </p:blipFill>
        <p:spPr>
          <a:xfrm>
            <a:off x="1733400" y="0"/>
            <a:ext cx="528984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dolmazonv</cp:lastModifiedBy>
  <dcterms:modified xsi:type="dcterms:W3CDTF">2010-04-08T14:53:07Z</dcterms:modified>
  <cp:revision>9</cp:revision>
  <dc:subject/>
  <dc:title>Quality Manual Structure and Contents</dc:title>
</cp:coreProperties>
</file>